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7.png" ContentType="image/png"/>
  <Override PartName="/ppt/media/image30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78.gif" ContentType="image/gif"/>
  <Override PartName="/ppt/media/image123.jpeg" ContentType="image/jpeg"/>
  <Override PartName="/ppt/media/image115.jpeg" ContentType="image/jpeg"/>
  <Override PartName="/ppt/media/image67.png" ContentType="image/png"/>
  <Override PartName="/ppt/media/image134.wmf" ContentType="image/x-wmf"/>
  <Override PartName="/ppt/media/image114.jpeg" ContentType="image/jpeg"/>
  <Override PartName="/ppt/media/image113.jpeg" ContentType="image/jpeg"/>
  <Override PartName="/ppt/media/image109.jpeg" ContentType="image/jpeg"/>
  <Override PartName="/ppt/media/image20.jpeg" ContentType="image/jpeg"/>
  <Override PartName="/ppt/media/image182.jpeg" ContentType="image/jpeg"/>
  <Override PartName="/ppt/media/image117.jpeg" ContentType="image/jpeg"/>
  <Override PartName="/ppt/media/image100.jpeg" ContentType="image/jpeg"/>
  <Override PartName="/ppt/media/image99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22.png" ContentType="image/png"/>
  <Override PartName="/ppt/media/image111.jpeg" ContentType="image/jpeg"/>
  <Override PartName="/ppt/media/image162.wmf" ContentType="image/x-wmf"/>
  <Override PartName="/ppt/media/image91.jpeg" ContentType="image/jpeg"/>
  <Override PartName="/ppt/media/image110.jpeg" ContentType="image/jpeg"/>
  <Override PartName="/ppt/media/image152.wmf" ContentType="image/x-wmf"/>
  <Override PartName="/ppt/media/image90.jpeg" ContentType="image/jpeg"/>
  <Override PartName="/ppt/media/image105.jpeg" ContentType="image/jpeg"/>
  <Override PartName="/ppt/media/image27.wmf" ContentType="image/x-wmf"/>
  <Override PartName="/ppt/media/image85.jpeg" ContentType="image/jpeg"/>
  <Override PartName="/ppt/media/image103.jpeg" ContentType="image/jpeg"/>
  <Override PartName="/ppt/media/image83.jpeg" ContentType="image/jpeg"/>
  <Override PartName="/ppt/media/image119.jpeg" ContentType="image/jpeg"/>
  <Override PartName="/ppt/media/image192.jpeg" ContentType="image/jpeg"/>
  <Override PartName="/ppt/media/image102.jpeg" ContentType="image/jpeg"/>
  <Override PartName="/ppt/media/image82.jpeg" ContentType="image/jpeg"/>
  <Override PartName="/ppt/media/image79.wmf" ContentType="image/x-wmf"/>
  <Override PartName="/ppt/media/image75.jpeg" ContentType="image/jpeg"/>
  <Override PartName="/ppt/media/image73.jpeg" ContentType="image/jpeg"/>
  <Override PartName="/ppt/media/image15.png" ContentType="image/png"/>
  <Override PartName="/ppt/media/image150.wmf" ContentType="image/x-wmf"/>
  <Override PartName="/ppt/media/image72.jpeg" ContentType="image/jpeg"/>
  <Override PartName="/ppt/media/image140.wmf" ContentType="image/x-wmf"/>
  <Override PartName="/ppt/media/image71.jpeg" ContentType="image/jpeg"/>
  <Override PartName="/ppt/media/image70.jpeg" ContentType="image/jpeg"/>
  <Override PartName="/ppt/media/image68.jpeg" ContentType="image/jpeg"/>
  <Override PartName="/ppt/media/image65.jpeg" ContentType="image/jpeg"/>
  <Override PartName="/ppt/media/image64.jpeg" ContentType="image/jpeg"/>
  <Override PartName="/ppt/media/image63.jpeg" ContentType="image/jpeg"/>
  <Override PartName="/ppt/media/image43.wmf" ContentType="image/x-wmf"/>
  <Override PartName="/ppt/media/image62.jpeg" ContentType="image/jpeg"/>
  <Override PartName="/ppt/media/image33.wmf" ContentType="image/x-wmf"/>
  <Override PartName="/ppt/media/image78.jpeg" ContentType="image/jpeg"/>
  <Override PartName="/ppt/media/image61.jpeg" ContentType="image/jpeg"/>
  <Override PartName="/ppt/media/image108.jpeg" ContentType="image/jpeg"/>
  <Override PartName="/ppt/media/image88.jpeg" ContentType="image/jpeg"/>
  <Override PartName="/ppt/media/image32.wmf" ContentType="image/x-wmf"/>
  <Override PartName="/ppt/media/image29.jpeg" ContentType="image/jpeg"/>
  <Override PartName="/ppt/media/image7.gif" ContentType="image/gif"/>
  <Override PartName="/ppt/media/image159.gif" ContentType="image/gif"/>
  <Override PartName="/ppt/media/image121.jpeg" ContentType="image/jpeg"/>
  <Override PartName="/ppt/media/image104.jpeg" ContentType="image/jpeg"/>
  <Override PartName="/ppt/media/image17.wmf" ContentType="image/x-wmf"/>
  <Override PartName="/ppt/media/image84.jpeg" ContentType="image/jpeg"/>
  <Override PartName="/ppt/media/image25.jpeg" ContentType="image/jpeg"/>
  <Override PartName="/ppt/media/image187.jpeg" ContentType="image/jpeg"/>
  <Override PartName="/ppt/media/image35.gif" ContentType="image/gif"/>
  <Override PartName="/ppt/media/image44.jpeg" ContentType="image/jpeg"/>
  <Override PartName="/ppt/media/image47.jpeg" ContentType="image/jpeg"/>
  <Override PartName="/ppt/media/image8.gif" ContentType="image/gif"/>
  <Override PartName="/ppt/media/image54.jpeg" ContentType="image/jpeg"/>
  <Override PartName="/ppt/media/image153.wmf" ContentType="image/x-wmf"/>
  <Override PartName="/ppt/media/image74.jpeg" ContentType="image/jpeg"/>
  <Override PartName="/ppt/media/image57.jpeg" ContentType="image/jpeg"/>
  <Override PartName="/ppt/media/image183.wmf" ContentType="image/x-wmf"/>
  <Override PartName="/ppt/media/image21.wmf" ContentType="image/x-wmf"/>
  <Override PartName="/ppt/media/image60.jpeg" ContentType="image/jpeg"/>
  <Override PartName="/ppt/media/image46.jpeg" ContentType="image/jpeg"/>
  <Override PartName="/ppt/media/image3.wmf" ContentType="image/x-wmf"/>
  <Override PartName="/ppt/media/image155.wmf" ContentType="image/x-wmf"/>
  <Override PartName="/ppt/media/image194.wmf" ContentType="image/x-wmf"/>
  <Override PartName="/ppt/media/image101.jpeg" ContentType="image/jpeg"/>
  <Override PartName="/ppt/media/image129.wmf" ContentType="image/x-wmf"/>
  <Override PartName="/ppt/media/image175.jpeg" ContentType="image/jpeg"/>
  <Override PartName="/ppt/media/image50.jpeg" ContentType="image/jpeg"/>
  <Override PartName="/ppt/media/image176.gif" ContentType="image/gif"/>
  <Override PartName="/ppt/media/image14.gif" ContentType="image/gif"/>
  <Override PartName="/ppt/media/image98.jpeg" ContentType="image/jpeg"/>
  <Override PartName="/ppt/media/image120.jpeg" ContentType="image/jpeg"/>
  <Override PartName="/ppt/media/image185.wmf" ContentType="image/x-wmf"/>
  <Override PartName="/ppt/media/image136.wmf" ContentType="image/x-wmf"/>
  <Override PartName="/ppt/media/image195.jpeg" ContentType="image/jpeg"/>
  <Override PartName="/ppt/media/image39.jpeg" ContentType="image/jpeg"/>
  <Override PartName="/ppt/media/image128.wmf" ContentType="image/x-wmf"/>
  <Override PartName="/ppt/media/image58.png" ContentType="image/png"/>
  <Override PartName="/ppt/media/image193.wmf" ContentType="image/x-wmf"/>
  <Override PartName="/ppt/media/image40.jpeg" ContentType="image/jpeg"/>
  <Override PartName="/ppt/media/image174.gif" ContentType="image/gif"/>
  <Override PartName="/ppt/media/image12.gif" ContentType="image/gif"/>
  <Override PartName="/ppt/media/image112.jpeg" ContentType="image/jpeg"/>
  <Override PartName="/ppt/media/image137.gif" ContentType="image/gif"/>
  <Override PartName="/ppt/media/image131.jpeg" ContentType="image/jpeg"/>
  <Override PartName="/ppt/media/image172.gif" ContentType="image/gif"/>
  <Override PartName="/ppt/media/image10.gif" ContentType="image/gif"/>
  <Override PartName="/ppt/media/image168.wmf" ContentType="image/x-wmf"/>
  <Override PartName="/ppt/media/image56.jpeg" ContentType="image/jpeg"/>
  <Override PartName="/ppt/media/image173.wmf" ContentType="image/x-wmf"/>
  <Override PartName="/ppt/media/image11.wmf" ContentType="image/x-wmf"/>
  <Override PartName="/ppt/media/image76.jpeg" ContentType="image/jpeg"/>
  <Override PartName="/ppt/media/image177.gif" ContentType="image/gif"/>
  <Override PartName="/ppt/media/image42.jpeg" ContentType="image/jpeg"/>
  <Override PartName="/ppt/media/image179.gif" ContentType="image/gif"/>
  <Override PartName="/ppt/media/image135.wmf" ContentType="image/x-wmf"/>
  <Override PartName="/ppt/media/image81.png" ContentType="image/png"/>
  <Override PartName="/ppt/media/image139.gif" ContentType="image/gif"/>
  <Override PartName="/ppt/media/image191.jpeg" ContentType="image/jpeg"/>
  <Override PartName="/ppt/media/image118.jpeg" ContentType="image/jpeg"/>
  <Override PartName="/ppt/media/image164.wmf" ContentType="image/x-wmf"/>
  <Override PartName="/ppt/media/image141.wmf" ContentType="image/x-wmf"/>
  <Override PartName="/ppt/media/image144.gif" ContentType="image/gif"/>
  <Override PartName="/ppt/media/image130.png" ContentType="image/png"/>
  <Override PartName="/ppt/media/image166.jpeg" ContentType="image/jpeg"/>
  <Override PartName="/ppt/media/image169.wmf" ContentType="image/x-wmf"/>
  <Override PartName="/ppt/media/image158.wmf" ContentType="image/x-wmf"/>
  <Override PartName="/ppt/media/image184.gif" ContentType="image/gif"/>
  <Override PartName="/ppt/media/image170.gif" ContentType="image/gif"/>
  <Override PartName="/ppt/media/image181.gif" ContentType="image/gif"/>
  <Override PartName="/ppt/media/image189.jpeg" ContentType="image/jpeg"/>
  <Override PartName="/ppt/media/image151.wmf" ContentType="image/x-wmf"/>
  <Override PartName="/ppt/media/image148.wmf" ContentType="image/x-wmf"/>
  <Override PartName="/ppt/media/image161.jpeg" ContentType="image/jpeg"/>
  <Override PartName="/ppt/media/image132.jpeg" ContentType="image/jpeg"/>
  <Override PartName="/ppt/media/image142.wmf" ContentType="image/x-wmf"/>
  <Override PartName="/ppt/media/image23.png" ContentType="image/png"/>
  <Override PartName="/ppt/media/image160.gif" ContentType="image/gif"/>
  <Override PartName="/ppt/media/image51.jpeg" ContentType="image/jpeg"/>
  <Override PartName="/ppt/media/image146.wmf" ContentType="image/x-wmf"/>
  <Override PartName="/ppt/media/image154.gif" ContentType="image/gif"/>
  <Override PartName="/ppt/media/image167.jpeg" ContentType="image/jpeg"/>
  <Override PartName="/ppt/media/image149.wmf" ContentType="image/x-wmf"/>
  <Override PartName="/ppt/media/image147.wmf" ContentType="image/x-wmf"/>
  <Override PartName="/ppt/media/image145.wmf" ContentType="image/x-wmf"/>
  <Override PartName="/ppt/media/image26.png" ContentType="image/png"/>
  <Override PartName="/ppt/media/image138.gif" ContentType="image/gif"/>
  <Override PartName="/ppt/media/image55.jpeg" ContentType="image/jpeg"/>
  <Override PartName="/ppt/media/image163.wmf" ContentType="image/x-wmf"/>
  <Override PartName="/ppt/media/image24.wmf" ContentType="image/x-wmf"/>
  <Override PartName="/ppt/media/image186.wmf" ContentType="image/x-wmf"/>
  <Override PartName="/ppt/media/image38.jpeg" ContentType="image/jpeg"/>
  <Override PartName="/ppt/media/image97.jpeg" ContentType="image/jpeg"/>
  <Override PartName="/ppt/media/image53.jpeg" ContentType="image/jpeg"/>
  <Override PartName="/ppt/media/image143.wmf" ContentType="image/x-wmf"/>
  <Override PartName="/ppt/media/image6.gif" ContentType="image/gif"/>
  <Override PartName="/ppt/media/image122.jpeg" ContentType="image/jpeg"/>
  <Override PartName="/ppt/media/image52.jpeg" ContentType="image/jpeg"/>
  <Override PartName="/ppt/media/image133.wmf" ContentType="image/x-wmf"/>
  <Override PartName="/ppt/media/image18.wmf" ContentType="image/x-wmf"/>
  <Override PartName="/ppt/media/image48.jpeg" ContentType="image/jpeg"/>
  <Override PartName="/ppt/media/image77.jpeg" ContentType="image/jpeg"/>
  <Override PartName="/ppt/media/image190.wmf" ContentType="image/x-wmf"/>
  <Override PartName="/ppt/media/image157.wmf" ContentType="image/x-wmf"/>
  <Override PartName="/ppt/media/image5.wmf" ContentType="image/x-wmf"/>
  <Override PartName="/ppt/media/image80.wmf" ContentType="image/x-wmf"/>
  <Override PartName="/ppt/media/image86.jpeg" ContentType="image/jpeg"/>
  <Override PartName="/ppt/media/image106.jpeg" ContentType="image/jpeg"/>
  <Override PartName="/ppt/media/image31.gif" ContentType="image/gif"/>
  <Override PartName="/ppt/media/image9.gif" ContentType="image/gif"/>
  <Override PartName="/ppt/media/image69.jpeg" ContentType="image/jpeg"/>
  <Override PartName="/ppt/media/image13.gif" ContentType="image/gif"/>
  <Override PartName="/ppt/media/image37.jpeg" ContentType="image/jpeg"/>
  <Override PartName="/ppt/media/image49.jpeg" ContentType="image/jpeg"/>
  <Override PartName="/ppt/media/image28.wmf" ContentType="image/x-wmf"/>
  <Override PartName="/ppt/media/image36.jpeg" ContentType="image/jpeg"/>
  <Override PartName="/ppt/media/image2.jpeg" ContentType="image/jpeg"/>
  <Override PartName="/ppt/media/image34.wmf" ContentType="image/x-wmf"/>
  <Override PartName="/ppt/media/image156.wmf" ContentType="image/x-wmf"/>
  <Override PartName="/ppt/media/image4.wmf" ContentType="image/x-wmf"/>
  <Override PartName="/ppt/media/image41.jpeg" ContentType="image/jpeg"/>
  <Override PartName="/ppt/media/image16.wmf" ContentType="image/x-wmf"/>
  <Override PartName="/ppt/media/image66.jpeg" ContentType="image/jpeg"/>
  <Override PartName="/ppt/media/image87.jpeg" ContentType="image/jpeg"/>
  <Override PartName="/ppt/media/image107.jpeg" ContentType="image/jpeg"/>
  <Override PartName="/ppt/media/image180.jpeg" ContentType="image/jpeg"/>
  <Override PartName="/ppt/media/image165.wmf" ContentType="image/x-wmf"/>
  <Override PartName="/ppt/media/image1.jpeg" ContentType="image/jpeg"/>
  <Override PartName="/ppt/media/image89.jpeg" ContentType="image/jpeg"/>
  <Override PartName="/ppt/media/image45.jpeg" ContentType="image/jpeg"/>
  <Override PartName="/ppt/media/image92.jpeg" ContentType="image/jpeg"/>
  <Override PartName="/ppt/media/image19.jpeg" ContentType="image/jpeg"/>
  <Override PartName="/ppt/media/image188.jpeg" ContentType="image/jpeg"/>
  <Override PartName="/ppt/media/image171.gif" ContentType="image/gif"/>
  <Override PartName="/ppt/media/image59.wmf" ContentType="image/x-wmf"/>
  <Override PartName="/ppt/media/image11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53C0-3D96-4B8B-9C9E-985CD09C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ACE-C217-48D8-AFAC-F49EEA25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47B-D628-4B48-BC7E-C5B66594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ED91-4557-4997-AC0C-AB9E6A20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E7DA-77C4-4335-BDC8-92E53E09A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A6DA-10FD-4AA9-B283-C5DEFA44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CE75-046F-47D7-81A9-8926D334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177D-FEBC-4FD0-AFA8-0093C3E3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8A81-F858-4E5D-B517-B61F0822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5340-2D8F-495C-AE5F-4ACE19FF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E0EC-892B-476A-B09C-CA2407BD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208B-1079-42B0-8CBD-D33426E5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9564-0238-43E0-9454-6D6E8585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0650-78F4-442D-BC24-B00963A1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B2C7-33F5-4CDC-A6BF-EAA680FC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0F43-CC67-4F7F-A61F-D61503A6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B93F-B246-41EC-AD22-AA4DE361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A7DFD-85AA-4996-9595-45A4CEF0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00F03-B199-4898-80DA-9B9F7DBD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199C4-28C3-43EB-BA39-962B4762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CAA90-6D41-4D1B-A787-C81BEB23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8328C-4BB4-4499-AAAF-EB17346F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5CBB-292A-4F3D-90AF-5ADAE5D2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AAAFF-5B1A-4047-8184-F5005356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09BFF-CC94-45B7-8FA9-489E1BE9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DA91B-5801-4FC4-8AED-52663C3B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298D1-D16D-4C99-89C2-E92A73B7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BBA88-3174-49FE-9B19-679DA64D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D6E5F-9674-4DF7-A34D-72DDCC2B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BCE9B-28DE-4122-A198-81F70D42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BF99-DDB5-44F1-A180-89A952FB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004B-C161-445A-91C6-A3A312DC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7D65-94D2-440C-93EB-620FC900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A691-0CEA-4F1E-BDC6-D8DFCBD0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C7B2-3270-4FC4-A908-023A693E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5CE7-8C20-4E10-8BC8-FB839220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B12A-0014-457C-87AF-4BCABB6B98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F574-7C96-472E-8485-F539ED6D24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ADCD-7632-4B68-AA96-43878EE6B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2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wmf"/><Relationship Id="rId4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jpeg"/><Relationship Id="rId3" Type="http://schemas.openxmlformats.org/officeDocument/2006/relationships/image" Target="../media/image93.jpeg"/><Relationship Id="rId4" Type="http://schemas.openxmlformats.org/officeDocument/2006/relationships/image" Target="../media/image94.jpeg"/><Relationship Id="rId5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image" Target="../media/image97.jpeg"/><Relationship Id="rId4" Type="http://schemas.openxmlformats.org/officeDocument/2006/relationships/image" Target="../media/image98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image" Target="../media/image102.jpeg"/><Relationship Id="rId5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image" Target="../media/image106.jpeg"/><Relationship Id="rId5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08.jpeg"/><Relationship Id="rId3" Type="http://schemas.openxmlformats.org/officeDocument/2006/relationships/image" Target="../media/image109.jpeg"/><Relationship Id="rId4" Type="http://schemas.openxmlformats.org/officeDocument/2006/relationships/image" Target="../media/image110.jpeg"/><Relationship Id="rId5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5.jpeg"/><Relationship Id="rId2" Type="http://schemas.openxmlformats.org/officeDocument/2006/relationships/image" Target="../media/image116.jpeg"/><Relationship Id="rId3" Type="http://schemas.openxmlformats.org/officeDocument/2006/relationships/image" Target="../media/image117.jpeg"/><Relationship Id="rId4" Type="http://schemas.openxmlformats.org/officeDocument/2006/relationships/image" Target="../media/image118.jpeg"/><Relationship Id="rId5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image" Target="../media/image120.jpeg"/><Relationship Id="rId3" Type="http://schemas.openxmlformats.org/officeDocument/2006/relationships/image" Target="../media/image121.jpeg"/><Relationship Id="rId4" Type="http://schemas.openxmlformats.org/officeDocument/2006/relationships/image" Target="../media/image122.jpeg"/><Relationship Id="rId5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jpeg"/><Relationship Id="rId3" Type="http://schemas.openxmlformats.org/officeDocument/2006/relationships/image" Target="../media/image125.jpe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6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27.png"/><Relationship Id="rId3" Type="http://schemas.openxmlformats.org/officeDocument/2006/relationships/image" Target="../media/image127.png"/><Relationship Id="rId4" Type="http://schemas.openxmlformats.org/officeDocument/2006/relationships/image" Target="../media/image127.png"/><Relationship Id="rId5" Type="http://schemas.openxmlformats.org/officeDocument/2006/relationships/image" Target="../media/image128.wmf"/><Relationship Id="rId6" Type="http://schemas.openxmlformats.org/officeDocument/2006/relationships/image" Target="../media/image3.wmf"/><Relationship Id="rId7" Type="http://schemas.openxmlformats.org/officeDocument/2006/relationships/image" Target="../media/image129.wmf"/><Relationship Id="rId8" Type="http://schemas.openxmlformats.org/officeDocument/2006/relationships/image" Target="../media/image130.png"/><Relationship Id="rId9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1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32.jpeg"/><Relationship Id="rId2" Type="http://schemas.openxmlformats.org/officeDocument/2006/relationships/image" Target="../media/image133.wmf"/><Relationship Id="rId3" Type="http://schemas.openxmlformats.org/officeDocument/2006/relationships/image" Target="../media/image134.wmf"/><Relationship Id="rId4" Type="http://schemas.openxmlformats.org/officeDocument/2006/relationships/image" Target="../media/image135.wmf"/><Relationship Id="rId5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36.wmf"/><Relationship Id="rId2" Type="http://schemas.openxmlformats.org/officeDocument/2006/relationships/image" Target="../media/image137.gif"/><Relationship Id="rId3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8.gif"/><Relationship Id="rId2" Type="http://schemas.openxmlformats.org/officeDocument/2006/relationships/image" Target="../media/image139.gif"/><Relationship Id="rId3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0.wmf"/><Relationship Id="rId2" Type="http://schemas.openxmlformats.org/officeDocument/2006/relationships/image" Target="../media/image141.wmf"/><Relationship Id="rId3" Type="http://schemas.openxmlformats.org/officeDocument/2006/relationships/image" Target="../media/image142.wmf"/><Relationship Id="rId4" Type="http://schemas.openxmlformats.org/officeDocument/2006/relationships/image" Target="../media/image143.wmf"/><Relationship Id="rId5" Type="http://schemas.openxmlformats.org/officeDocument/2006/relationships/image" Target="../media/image144.gif"/><Relationship Id="rId6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5.wmf"/><Relationship Id="rId2" Type="http://schemas.openxmlformats.org/officeDocument/2006/relationships/image" Target="../media/image146.wmf"/><Relationship Id="rId3" Type="http://schemas.openxmlformats.org/officeDocument/2006/relationships/image" Target="../media/image147.wmf"/><Relationship Id="rId4" Type="http://schemas.openxmlformats.org/officeDocument/2006/relationships/image" Target="../media/image148.wmf"/><Relationship Id="rId5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9.wmf"/><Relationship Id="rId2" Type="http://schemas.openxmlformats.org/officeDocument/2006/relationships/image" Target="../media/image150.wmf"/><Relationship Id="rId3" Type="http://schemas.openxmlformats.org/officeDocument/2006/relationships/image" Target="../media/image151.wmf"/><Relationship Id="rId4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52.wmf"/><Relationship Id="rId2" Type="http://schemas.openxmlformats.org/officeDocument/2006/relationships/image" Target="../media/image153.wmf"/><Relationship Id="rId3" Type="http://schemas.openxmlformats.org/officeDocument/2006/relationships/image" Target="../media/image154.gif"/><Relationship Id="rId4" Type="http://schemas.openxmlformats.org/officeDocument/2006/relationships/image" Target="../media/image155.wmf"/><Relationship Id="rId5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6.wmf"/><Relationship Id="rId2" Type="http://schemas.openxmlformats.org/officeDocument/2006/relationships/image" Target="../media/image157.wmf"/><Relationship Id="rId3" Type="http://schemas.openxmlformats.org/officeDocument/2006/relationships/image" Target="../media/image150.wmf"/><Relationship Id="rId4" Type="http://schemas.openxmlformats.org/officeDocument/2006/relationships/image" Target="../media/image158.wm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59.gif"/><Relationship Id="rId3" Type="http://schemas.openxmlformats.org/officeDocument/2006/relationships/image" Target="../media/image160.gif"/><Relationship Id="rId4" Type="http://schemas.openxmlformats.org/officeDocument/2006/relationships/image" Target="../media/image161.jpeg"/><Relationship Id="rId5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62.wmf"/><Relationship Id="rId2" Type="http://schemas.openxmlformats.org/officeDocument/2006/relationships/image" Target="../media/image163.wmf"/><Relationship Id="rId3" Type="http://schemas.openxmlformats.org/officeDocument/2006/relationships/image" Target="../media/image164.wmf"/><Relationship Id="rId4" Type="http://schemas.openxmlformats.org/officeDocument/2006/relationships/image" Target="../media/image165.wmf"/><Relationship Id="rId5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66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7.jpeg"/><Relationship Id="rId2" Type="http://schemas.openxmlformats.org/officeDocument/2006/relationships/image" Target="../media/image168.wmf"/><Relationship Id="rId3" Type="http://schemas.openxmlformats.org/officeDocument/2006/relationships/image" Target="../media/image169.wmf"/><Relationship Id="rId4" Type="http://schemas.openxmlformats.org/officeDocument/2006/relationships/slideLayout" Target="../slideLayouts/slideLayout3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70.gif"/><Relationship Id="rId2" Type="http://schemas.openxmlformats.org/officeDocument/2006/relationships/image" Target="../media/image171.gif"/><Relationship Id="rId3" Type="http://schemas.openxmlformats.org/officeDocument/2006/relationships/image" Target="../media/image172.gif"/><Relationship Id="rId4" Type="http://schemas.openxmlformats.org/officeDocument/2006/relationships/image" Target="../media/image173.wmf"/><Relationship Id="rId5" Type="http://schemas.openxmlformats.org/officeDocument/2006/relationships/image" Target="../media/image174.gif"/><Relationship Id="rId6" Type="http://schemas.openxmlformats.org/officeDocument/2006/relationships/image" Target="../media/image175.jpeg"/><Relationship Id="rId7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76.gif"/><Relationship Id="rId2" Type="http://schemas.openxmlformats.org/officeDocument/2006/relationships/image" Target="../media/image177.gif"/><Relationship Id="rId3" Type="http://schemas.openxmlformats.org/officeDocument/2006/relationships/image" Target="../media/image178.gif"/><Relationship Id="rId4" Type="http://schemas.openxmlformats.org/officeDocument/2006/relationships/image" Target="../media/image179.gif"/><Relationship Id="rId5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80.jpeg"/><Relationship Id="rId2" Type="http://schemas.openxmlformats.org/officeDocument/2006/relationships/image" Target="../media/image181.gif"/><Relationship Id="rId3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82.jpeg"/><Relationship Id="rId2" Type="http://schemas.openxmlformats.org/officeDocument/2006/relationships/image" Target="../media/image183.wmf"/><Relationship Id="rId3" Type="http://schemas.openxmlformats.org/officeDocument/2006/relationships/image" Target="../media/image184.gif"/><Relationship Id="rId4" Type="http://schemas.openxmlformats.org/officeDocument/2006/relationships/image" Target="../media/image185.wmf"/><Relationship Id="rId5" Type="http://schemas.openxmlformats.org/officeDocument/2006/relationships/image" Target="../media/image186.wmf"/><Relationship Id="rId6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87.jpeg"/><Relationship Id="rId2" Type="http://schemas.openxmlformats.org/officeDocument/2006/relationships/image" Target="../media/image188.jpeg"/><Relationship Id="rId3" Type="http://schemas.openxmlformats.org/officeDocument/2006/relationships/image" Target="../media/image189.jpeg"/><Relationship Id="rId4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90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91.jpeg"/><Relationship Id="rId2" Type="http://schemas.openxmlformats.org/officeDocument/2006/relationships/image" Target="../media/image192.jpeg"/><Relationship Id="rId3" Type="http://schemas.openxmlformats.org/officeDocument/2006/relationships/image" Target="../media/image18.wmf"/><Relationship Id="rId4" Type="http://schemas.openxmlformats.org/officeDocument/2006/relationships/image" Target="../media/image159.gif"/><Relationship Id="rId5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93.wmf"/><Relationship Id="rId2" Type="http://schemas.openxmlformats.org/officeDocument/2006/relationships/image" Target="../media/image194.wmf"/><Relationship Id="rId3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9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685800"/>
            <a:ext cx="6408720" cy="553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A68A8-3DE2-42E5-B240-E0A3E0D4FB8C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8497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Футбол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как составляюща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здорового образа жизн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84480" y="4724280"/>
            <a:ext cx="1441440" cy="1729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68360" y="4869000"/>
            <a:ext cx="2016000" cy="15332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55640" y="347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МЕТОДИЧЕСКАЯ ТЕМ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877080" y="4941720"/>
            <a:ext cx="1871640" cy="142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A28D9-24B9-4607-A55B-362F8E26B609}" type="slidenum">
              <a:t>10</a:t>
            </a:fld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300"/>
                            </p:stCondLst>
                            <p:childTnLst>
                              <p:par>
                                <p:cTn id="2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219640" y="836640"/>
            <a:ext cx="3673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Ничто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не даетс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так дёшево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и не ценитс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так дорого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ка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здоровье 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659480" cy="54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9058E-FFBB-4372-BE56-F87166FB80EB}" type="slidenum">
              <a:t>11</a:t>
            </a:fld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18900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Степанов Владимир Викторови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1341360"/>
            <a:ext cx="42480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5 года рож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азование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сшее, 1993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дагогический ста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боты – 3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дёт занятия п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утболу в ЦДОД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группа - 1992-93 г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группа - 1995-96 г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нер по футбол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портив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клас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Ш №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468360" y="1341360"/>
            <a:ext cx="3664080" cy="5040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08720" y="5300640"/>
            <a:ext cx="1513080" cy="129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67C11-798D-4AAA-8A0E-8AB4AECA7806}" type="slidenum">
              <a:t>12</a:t>
            </a:fld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6120000" cy="529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7900C-F9F7-4231-A382-0ABC5DF149F9}" type="slidenum">
              <a:t>13</a:t>
            </a:fld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476280"/>
            <a:ext cx="698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4360" y="2565360"/>
            <a:ext cx="748800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3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255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РАЗОВАНИЕ</a:t>
            </a:r>
            <a:endParaRPr b="0" lang="en-US" sz="7200" spc="1" strike="noStrike">
              <a:ln w="255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932360" y="620640"/>
            <a:ext cx="3168720" cy="277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77907-A677-4224-9054-C9729FE38092}" type="slidenum">
              <a:t>14</a:t>
            </a:fld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624720" cy="4757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195640" y="189000"/>
            <a:ext cx="43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Высше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380360" y="133200"/>
            <a:ext cx="1168200" cy="108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AFBEE-99F4-4BBC-BA68-FD5B00688FD5}" type="slidenum">
              <a:t>15</a:t>
            </a:fld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68360" y="907920"/>
            <a:ext cx="806436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Курсы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повышения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квалификации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1631880" cy="1655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093080" y="6206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D8E58-06EF-4601-809A-0C5BC75FED98}" type="slidenum">
              <a:t>16</a:t>
            </a:fld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По специальности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544032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Физкультурно-оздоровительные технолог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оздоровление учащихся средствами физической культуры и спо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84720" y="1628640"/>
            <a:ext cx="2571840" cy="3529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2563560" cy="3672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492360" y="2492280"/>
            <a:ext cx="2232000" cy="21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A1406-43C0-43F8-85BB-57D0E980697E}" type="slidenum">
              <a:t>17</a:t>
            </a:fld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250920" y="2708280"/>
            <a:ext cx="87138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АМООБРАЗОВА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020000" y="5084640"/>
            <a:ext cx="1439640" cy="1141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11280" y="4941720"/>
            <a:ext cx="2101680" cy="1349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659640" y="333360"/>
            <a:ext cx="2016000" cy="1717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55640" y="404640"/>
            <a:ext cx="1003320" cy="17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0115A-231B-4B38-A136-27625104C658}" type="slidenum">
              <a:t>18</a:t>
            </a:fld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гус Ж., «Шаг за шаго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Иванов В.К., «Центральный круг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Липатов В.Г., «Правила игры в футбол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Лобановский В.В., «Бесконечный матч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тто И.А., «Это футбол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латини М., «Жизнь как матч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онедельник В.В., «Штрафная площадка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ассо Э., «Футбольный тренер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ушков М.П., «Футбольный театр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Фесуненко И.С., «Чаша Мараканы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Филатов Л.И., «Тайна «Золотой богини»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Харви Г., «Футбол для начинающих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Шумахер Т., «Свисток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Еженедельники «Футбол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0F674-96C2-4B59-ACA9-C3A4FCDEFCF1}" type="slidenum">
              <a:t>19</a:t>
            </a:fld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68360" y="2924280"/>
            <a:ext cx="849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993300"/>
                    </a:gs>
                  </a:gsLst>
                  <a:lin ang="5400000"/>
                </a:gradFill>
                <a:latin typeface="Times New Roman"/>
              </a:rPr>
              <a:t>Добрый день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100000">
                    <a:srgbClr val="9933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2447640" cy="20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C40DF-633A-46AA-A4FA-002709FC85F9}" type="slidenum">
              <a:t>2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26920" y="2060640"/>
            <a:ext cx="77058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Грамоты 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Благодарности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Награждения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584000" cy="1346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316640" y="333360"/>
            <a:ext cx="1387800" cy="144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DFE71-60CB-40A2-9695-6D6FE8FBDFC4}" type="slidenum">
              <a:t>20</a:t>
            </a:fld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76720" y="1773360"/>
            <a:ext cx="2593800" cy="3671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2548080" cy="3671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227640" y="1773360"/>
            <a:ext cx="2586240" cy="3671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9640" y="33336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Комитет по физической культуре и спор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администрации городского округа «Город Йошкар-Ол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27280" y="558972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рт 2006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609300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За большой вклад в развитие детского футб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370A8-8DA4-4AF4-B4AD-50666D123220}" type="slidenum">
              <a:t>21</a:t>
            </a:fld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24000" y="2276640"/>
            <a:ext cx="446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добросовестны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в систе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воспит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одрост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2744640" cy="3816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24000" y="18900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правление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администрации городского округ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Город Йошкар-Ол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16360" y="6113520"/>
            <a:ext cx="33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ктябрь 2006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51140-3C9C-43DE-9AE5-0569C29C2518}" type="slidenum">
              <a:t>22</a:t>
            </a:fld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79280" y="17172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 ноябре 2006 го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редставле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т г. Йошкар-О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на соискание стипенди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Times New Roman"/>
              </a:rPr>
              <a:t>«Для детских тренеров и организаторов физкультурно-воспитательной работы по месту жительства»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учреждённой Российским благотворительным фондом спортивных программ «Новое поколение»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411280" y="4437000"/>
            <a:ext cx="4248360" cy="212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A15E8-2556-47B8-8C48-EA57A84BC1F8}" type="slidenum">
              <a:t>23</a:t>
            </a:fld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5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6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7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2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4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95280" y="333360"/>
            <a:ext cx="849780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ОТКРЫТЫЕ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МЕРОПРИЯТИЯ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276720" y="1916280"/>
            <a:ext cx="2455920" cy="28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66273-7251-444C-A485-B4792CD41AFC}" type="slidenum">
              <a:t>24</a:t>
            </a:fld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5772240" cy="37958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24000" y="189000"/>
            <a:ext cx="813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Рождественский турни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по футболу на снег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среди дворовых коман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88000" y="3500280"/>
            <a:ext cx="20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Январ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006 г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59640" y="55897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омбатх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D8BA1-6BA0-473B-A192-0DA9CA25A36A}" type="slidenum">
              <a:t>25</a:t>
            </a:fld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000"/>
                            </p:stCondLst>
                            <p:childTnLst>
                              <p:par>
                                <p:cTn id="8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4103640" cy="2641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411280" y="3573360"/>
            <a:ext cx="4680000" cy="2990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788000" y="692280"/>
            <a:ext cx="3887640" cy="259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5BE49-817D-4E7C-A28D-EFC8C5CC9C41}" type="slidenum">
              <a:t>26</a:t>
            </a:fld>
          </a:p>
        </p:txBody>
      </p:sp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0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840720" cy="4438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50920" y="25560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Весенний кубок по мини-футбол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32000" y="59911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рт 2006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A0188-393E-47A3-A618-AB1447BC4AFF}" type="slidenum">
              <a:t>27</a:t>
            </a:fld>
          </a:p>
        </p:txBody>
      </p:sp>
    </p:spTree>
  </p:cSld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103640" cy="2754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716360" y="404640"/>
            <a:ext cx="4103640" cy="2698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3959280" cy="2638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4716360" y="3645000"/>
            <a:ext cx="4032360" cy="265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558F9-98F1-47C1-9F36-DD80931FBD7B}" type="slidenum">
              <a:t>28</a:t>
            </a:fld>
          </a:p>
        </p:txBody>
      </p:sp>
    </p:spTree>
  </p:cSld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332000" y="3284640"/>
            <a:ext cx="1822320" cy="32004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932360" y="476280"/>
            <a:ext cx="3673440" cy="25509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684360" y="476280"/>
            <a:ext cx="3635280" cy="25131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4067280" y="3429000"/>
            <a:ext cx="4522680" cy="304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66FE3-3EE1-4B80-8B03-20810CDAE5EA}" type="slidenum">
              <a:t>29</a:t>
            </a:fld>
          </a:p>
        </p:txBody>
      </p:sp>
    </p:spTree>
  </p:cSld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68360" y="2492280"/>
            <a:ext cx="82072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Творчески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отчёт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48000" y="566100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г. Йошкар-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07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564000" y="189000"/>
            <a:ext cx="2376360" cy="204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9A756-F8F7-46F3-9123-D4657DB247B2}" type="slidenum">
              <a:t>3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84360" y="2635560"/>
            <a:ext cx="7848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Показатели и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результаты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деятельности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6F5B1-DE19-4DCF-A838-0DA30F502C5B}" type="slidenum">
              <a:t>30</a:t>
            </a:fld>
          </a:p>
        </p:txBody>
      </p:sp>
    </p:spTree>
  </p:cSld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0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716000" y="692280"/>
            <a:ext cx="42483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Городские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соревнова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3630600" cy="5256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435640" y="3213000"/>
            <a:ext cx="3024000" cy="21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14E30-EE35-4D07-83D9-EB4A077840D3}" type="slidenum">
              <a:t>31</a:t>
            </a:fld>
          </a:p>
        </p:txBody>
      </p: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21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2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3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4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156360" y="1989000"/>
            <a:ext cx="2560680" cy="36007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84360" y="573408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ладшая групп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333360"/>
            <a:ext cx="84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Городской турнир на призы клуба «Кожаный мяч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2633760" cy="3671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443640" y="57340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редняя групп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3640" y="595008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Июнь 2006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2997360"/>
            <a:ext cx="307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место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DFD4B-E543-4D48-8D6F-87442CBEBBCB}" type="slidenum">
              <a:t>32</a:t>
            </a:fld>
          </a:p>
        </p:txBody>
      </p:sp>
    </p:spTree>
  </p:cSld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0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042920" y="3573360"/>
            <a:ext cx="2160720" cy="2881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4716360" y="3573360"/>
            <a:ext cx="3959280" cy="2970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4859280" y="404640"/>
            <a:ext cx="3816360" cy="2864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2D6F5-B63C-4645-8760-4B317AB493EC}" type="slidenum">
              <a:t>33</a:t>
            </a:fld>
          </a:p>
        </p:txBody>
      </p:sp>
    </p:spTree>
  </p:cSld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0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after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417640" y="555480"/>
            <a:ext cx="34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Победа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4273560" cy="59770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940360" y="2133720"/>
            <a:ext cx="2400480" cy="360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A1F19-A30B-4549-9910-A6019F801D57}" type="slidenum">
              <a:t>34</a:t>
            </a:fld>
          </a:p>
        </p:txBody>
      </p:sp>
    </p:spTree>
  </p:cSld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0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5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2144520" cy="30243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900000" y="18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Растафари - 200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6659640" y="3068640"/>
            <a:ext cx="2066760" cy="3025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614760" y="3068640"/>
            <a:ext cx="2136600" cy="30243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39640" y="2060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рафон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48000" y="1557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рафон -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43640" y="2060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рафон -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92360" y="213372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I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мест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19640" y="61848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Август 2006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630F6-8109-4507-A0CD-A8335D7DA9D3}" type="slidenum">
              <a:t>35</a:t>
            </a:fld>
          </a:p>
        </p:txBody>
      </p:sp>
    </p:spTree>
  </p:cSld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0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572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День физкультур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2544840" cy="34574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476360" y="59500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08.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651640" y="1700280"/>
            <a:ext cx="2520720" cy="34574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012000" y="59500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03.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63640" y="5300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32360" y="189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Спорт-экспрес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Йошкар-О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8560" y="5300640"/>
            <a:ext cx="14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I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F2AF4-F1CF-4673-8BB0-2E32D4FD8DCC}" type="slidenum">
              <a:t>36</a:t>
            </a:fld>
          </a:p>
        </p:txBody>
      </p:sp>
    </p:spTree>
  </p:cSld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0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Первенство города среди школьнико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по мини-футбол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3997080" cy="432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890FA-D905-4209-8B48-BD15C9F9308A}" type="slidenum">
              <a:t>37</a:t>
            </a:fld>
          </a:p>
        </p:txBody>
      </p:sp>
    </p:spTree>
  </p:cSld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0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700360" y="3357720"/>
            <a:ext cx="3889440" cy="30445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1893960" cy="2808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6877080" y="1989000"/>
            <a:ext cx="1967040" cy="28101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492360" y="2349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ен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38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«Марафон – 28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9640" y="494172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пит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93080" y="494172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ратар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86F56-B499-4B38-BCE1-54494C927AC8}" type="slidenum">
              <a:t>38</a:t>
            </a:fld>
          </a:p>
        </p:txBody>
      </p:sp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0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932360" y="3068640"/>
            <a:ext cx="4032360" cy="29401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3960720" cy="29844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79280" y="62928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Победители!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7236000" y="333360"/>
            <a:ext cx="1461960" cy="15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88D68-B450-4AB7-8E5F-2D9C8B4106B8}" type="slidenum">
              <a:t>39</a:t>
            </a:fld>
          </a:p>
        </p:txBody>
      </p:sp>
    </p:spTree>
  </p:cSld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71640" y="765000"/>
            <a:ext cx="741672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Центр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дополнительного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образования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детей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58770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004 - 2006 г.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48360" y="5157720"/>
            <a:ext cx="1800360" cy="1336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9640" y="5084640"/>
            <a:ext cx="1728720" cy="1282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39640" y="333360"/>
            <a:ext cx="1728720" cy="1282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877080" y="333360"/>
            <a:ext cx="1800360" cy="133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2CE69-76F0-40E3-8390-205D1781950B}" type="slidenum">
              <a:t>4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Республиканские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турнир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771640" y="2492280"/>
          <a:ext cx="3541680" cy="360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492280"/>
                    <a:ext cx="354168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375A3-B4DD-46A1-AB59-2E0195176BBB}" type="slidenum">
              <a:t>40</a:t>
            </a:fld>
          </a:p>
        </p:txBody>
      </p:sp>
    </p:spTree>
  </p:cSld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0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49780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Турнир на призы клуба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«Кожаный мяч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5013000"/>
            <a:ext cx="77724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2 место по РМ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5904000" cy="1800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948360" y="2924280"/>
            <a:ext cx="1747800" cy="14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B7324-D892-4B01-93C5-7293803087DC}" type="slidenum">
              <a:t>41</a:t>
            </a:fld>
          </a:p>
        </p:txBody>
      </p:sp>
    </p:spTree>
  </p:cSld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0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79280" y="3933720"/>
            <a:ext cx="748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Российские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соревновани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B28A0-5D64-428E-9874-7FC5BA1D718A}" type="slidenum">
              <a:t>42</a:t>
            </a:fld>
          </a:p>
        </p:txBody>
      </p:sp>
    </p:spTree>
  </p:cSld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0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2911680" cy="43210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624560" y="1413000"/>
            <a:ext cx="4268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урнир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город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волжь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а приз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Д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 Спортив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оссия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58920" y="6021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Нижний Новгород,  март 2006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92360" y="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мест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6F1DC-D0EF-4962-9D4E-23E751873718}" type="slidenum">
              <a:t>43</a:t>
            </a:fld>
          </a:p>
        </p:txBody>
      </p:sp>
    </p:spTree>
  </p:cSld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0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7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4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9" dur="1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4" dur="10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9" dur="10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4" dur="10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9" dur="10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4" dur="10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1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0560" y="2420640"/>
            <a:ext cx="3025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Турнир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городов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оволжья</a:t>
            </a:r>
            <a:br>
              <a:rPr sz="18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6372360" y="2205000"/>
            <a:ext cx="2328840" cy="3240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55840" y="60879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3492360" y="2205000"/>
            <a:ext cx="2365560" cy="33116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327480" y="333360"/>
            <a:ext cx="498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мест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88000" y="5805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Август 2006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539640" y="404640"/>
            <a:ext cx="2376720" cy="14162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27240" y="508464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г. Шумерл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524A3-AC43-46E7-AF55-F60979EEDF3D}" type="slidenum">
              <a:t>44</a:t>
            </a:fld>
          </a:p>
        </p:txBody>
      </p:sp>
    </p:spTree>
  </p:cSld>
  <p:timing>
    <p:tnLst>
      <p:par>
        <p:cTn id="1522" dur="indefinite" restart="never" nodeType="tmRoot">
          <p:childTnLst>
            <p:seq>
              <p:cTn id="1523" dur="indefinite" nodeType="mainSeq">
                <p:childTnLst>
                  <p:par>
                    <p:cTn id="1524" fill="hold">
                      <p:stCondLst>
                        <p:cond delay="0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8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5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4039920" cy="5688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148360" y="758880"/>
            <a:ext cx="34560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Всероссийски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зональны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турнир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н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приз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клуб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«Кожаный мяч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юль 2006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EA70A-89B6-4360-8F75-852D4EDD08D2}" type="slidenum">
              <a:t>45</a:t>
            </a:fld>
          </a:p>
        </p:txBody>
      </p:sp>
    </p:spTree>
  </p:cSld>
  <p:timing>
    <p:tnLst>
      <p:par>
        <p:cTn id="1575" dur="indefinite" restart="never" nodeType="tmRoot">
          <p:childTnLst>
            <p:seq>
              <p:cTn id="1576" dur="indefinite" nodeType="mainSeq">
                <p:childTnLst>
                  <p:par>
                    <p:cTn id="1577" fill="hold">
                      <p:stCondLst>
                        <p:cond delay="0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3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0" dur="1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7" dur="1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4" dur="1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8" dur="10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5" dur="10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9" dur="50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7272360" cy="54532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826920" y="59500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7-23 июля 2006 года - Стадион «Строитель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826DF-85CE-44A6-9A90-DD56DE38537F}" type="slidenum">
              <a:t>46</a:t>
            </a:fld>
          </a:p>
        </p:txBody>
      </p:sp>
    </p:spTree>
  </p:cSld>
  <p:timing>
    <p:tnLst>
      <p:par>
        <p:cTn id="1640" dur="indefinite" restart="never" nodeType="tmRoot">
          <p:childTnLst>
            <p:seq>
              <p:cTn id="1641" dur="indefinite" nodeType="mainSeq">
                <p:childTnLst>
                  <p:par>
                    <p:cTn id="1642" fill="hold">
                      <p:stCondLst>
                        <p:cond delay="0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971640" y="907920"/>
            <a:ext cx="727236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ФОТОРЕПОРТАЖ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корреспондента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газеты 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"Йошкар-Ола"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Андрея Антонова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1270080" cy="11937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7308720" y="2852640"/>
            <a:ext cx="1441440" cy="10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07C99-E929-48A7-A9A7-20CC33B61053}" type="slidenum">
              <a:t>47</a:t>
            </a:fld>
          </a:p>
        </p:txBody>
      </p:sp>
    </p:spTree>
  </p:cSld>
  <p:timing>
    <p:tnLst>
      <p:par>
        <p:cTn id="1654" dur="indefinite" restart="never" nodeType="tmRoot">
          <p:childTnLst>
            <p:seq>
              <p:cTn id="1655" dur="indefinite" nodeType="mainSeq">
                <p:childTnLst>
                  <p:par>
                    <p:cTn id="1656" fill="hold">
                      <p:stCondLst>
                        <p:cond delay="0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932360" y="423720"/>
            <a:ext cx="3816360" cy="27720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5003640" y="3645000"/>
            <a:ext cx="3745080" cy="28620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39640" y="3645000"/>
            <a:ext cx="3889440" cy="28461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11280" y="404640"/>
            <a:ext cx="3744720" cy="28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E75B6-6551-46AA-A147-A8A0F5AF7BCF}" type="slidenum">
              <a:t>48</a:t>
            </a:fld>
          </a:p>
        </p:txBody>
      </p:sp>
    </p:spTree>
  </p:cSld>
  <p:timing>
    <p:tnLst>
      <p:par>
        <p:cTn id="1679" dur="indefinite" restart="never" nodeType="tmRoot">
          <p:childTnLst>
            <p:seq>
              <p:cTn id="1680" dur="indefinite" nodeType="mainSeq">
                <p:childTnLst>
                  <p:par>
                    <p:cTn id="1681" fill="hold">
                      <p:stCondLst>
                        <p:cond delay="0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afterEffect" fill="hold" presetClass="entr" presetID="3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5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7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3888000" cy="2846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932360" y="476280"/>
            <a:ext cx="3807000" cy="28558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468360" y="3591000"/>
            <a:ext cx="3949560" cy="29620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4932360" y="3573360"/>
            <a:ext cx="3816360" cy="296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442D4-93D2-4035-8192-CCFBAF54730C}" type="slidenum">
              <a:t>49</a:t>
            </a:fld>
          </a:p>
        </p:txBody>
      </p:sp>
    </p:spTree>
  </p:cSld>
  <p:timing>
    <p:tnLst>
      <p:par>
        <p:cTn id="1710" dur="indefinite" restart="never" nodeType="tmRoot">
          <p:childTnLst>
            <p:seq>
              <p:cTn id="1711" dur="indefinite" nodeType="mainSeq">
                <p:childTnLst>
                  <p:par>
                    <p:cTn id="1712" fill="hold">
                      <p:stCondLst>
                        <p:cond delay="0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0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95280" y="836640"/>
            <a:ext cx="8353440" cy="49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тепано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ладими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икторови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E3B9D-75F8-454C-8C2D-1202D24353C9}" type="slidenum">
              <a:t>5</a:t>
            </a:fld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4932360" y="4762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3814560" cy="2808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4932360" y="3645000"/>
            <a:ext cx="3743280" cy="28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FDADC-12C1-4449-BF80-3F4487A79141}" type="slidenum">
              <a:t>50</a:t>
            </a:fld>
          </a:p>
        </p:txBody>
      </p:sp>
    </p:spTree>
  </p:cSld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0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7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003640" y="47628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3745080" cy="27367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003640" y="3660840"/>
            <a:ext cx="3745080" cy="280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E9477-350E-4089-9B0B-8D4D7F0880DE}" type="slidenum">
              <a:t>51</a:t>
            </a:fld>
          </a:p>
        </p:txBody>
      </p:sp>
    </p:spTree>
  </p:cSld>
  <p:timing>
    <p:tnLst>
      <p:par>
        <p:cTn id="1772" dur="indefinite" restart="never" nodeType="tmRoot">
          <p:childTnLst>
            <p:seq>
              <p:cTn id="1773" dur="indefinite" nodeType="mainSeq">
                <p:childTnLst>
                  <p:par>
                    <p:cTn id="1774" fill="hold">
                      <p:stCondLst>
                        <p:cond delay="0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8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2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859280" y="40464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539640" y="362736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4932360" y="3645000"/>
            <a:ext cx="3807000" cy="285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6EE4F-4BAF-47F5-9AB1-9B5071F99943}" type="slidenum">
              <a:t>52</a:t>
            </a:fld>
          </a:p>
        </p:txBody>
      </p:sp>
    </p:spTree>
  </p:cSld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fill="hold">
                      <p:stCondLst>
                        <p:cond delay="0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4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6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1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3878280" cy="29084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539640" y="364500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4932360" y="364500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4859280" y="40464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545AC-6798-42F7-875C-76578984D9BD}" type="slidenum">
              <a:t>53</a:t>
            </a:fld>
          </a:p>
        </p:txBody>
      </p:sp>
    </p:spTree>
  </p:cSld>
  <p:timing>
    <p:tnLst>
      <p:par>
        <p:cTn id="1834" dur="indefinite" restart="never" nodeType="tmRoot">
          <p:childTnLst>
            <p:seq>
              <p:cTn id="1835" dur="indefinite" nodeType="mainSeq">
                <p:childTnLst>
                  <p:par>
                    <p:cTn id="1836" fill="hold">
                      <p:stCondLst>
                        <p:cond delay="0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3745080" cy="28101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4859280" y="404640"/>
            <a:ext cx="3745080" cy="28101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3745080" cy="27385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4932360" y="3716280"/>
            <a:ext cx="3673440" cy="275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77CCD-F8B3-442F-A74F-3C531B01048E}" type="slidenum">
              <a:t>54</a:t>
            </a:fld>
          </a:p>
        </p:txBody>
      </p:sp>
    </p:spTree>
  </p:cSld>
  <p:timing>
    <p:tnLst>
      <p:par>
        <p:cTn id="1865" dur="indefinite" restart="never" nodeType="tmRoot">
          <p:childTnLst>
            <p:seq>
              <p:cTn id="1866" dur="indefinite" nodeType="mainSeq">
                <p:childTnLst>
                  <p:par>
                    <p:cTn id="1867" fill="hold">
                      <p:stCondLst>
                        <p:cond delay="0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8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788000" y="47628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39640" y="3645000"/>
            <a:ext cx="3672000" cy="27367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4788000" y="3645000"/>
            <a:ext cx="3743280" cy="28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5BB98-E1BB-41DA-BB7B-F544BFFA8412}" type="slidenum">
              <a:t>55</a:t>
            </a:fld>
          </a:p>
        </p:txBody>
      </p:sp>
    </p:spTree>
  </p:cSld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0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0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7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9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4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2556000" y="3573360"/>
            <a:ext cx="4022640" cy="301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0349F-348C-4D3B-AD17-EAB33F91DF2E}" type="slidenum">
              <a:t>56</a:t>
            </a:fld>
          </a:p>
        </p:txBody>
      </p:sp>
    </p:spTree>
  </p:cSld>
  <p:timing>
    <p:tnLst>
      <p:par>
        <p:cTn id="1927" dur="indefinite" restart="never" nodeType="tmRoot">
          <p:childTnLst>
            <p:seq>
              <p:cTn id="1928" dur="indefinite" nodeType="mainSeq">
                <p:childTnLst>
                  <p:par>
                    <p:cTn id="1929" fill="hold">
                      <p:stCondLst>
                        <p:cond delay="0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3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8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5256360" cy="37544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24000" y="153360"/>
            <a:ext cx="86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ННОВАЦИОННА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32000" y="5516640"/>
            <a:ext cx="66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ДЕЯТЕЛЬНОСТ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0812D-33F1-4574-A757-5E7DB5AB5D7A}" type="slidenum">
              <a:t>57</a:t>
            </a:fld>
          </a:p>
        </p:txBody>
      </p:sp>
    </p:spTree>
  </p:cSld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0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8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9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3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4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5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68360" y="155736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Спортивный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класс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6732720" y="476280"/>
            <a:ext cx="1073160" cy="1197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6"/>
          <a:stretch/>
        </p:blipFill>
        <p:spPr>
          <a:xfrm>
            <a:off x="7093080" y="4365720"/>
            <a:ext cx="1631880" cy="18000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7"/>
          <a:stretch/>
        </p:blipFill>
        <p:spPr>
          <a:xfrm>
            <a:off x="468360" y="4076640"/>
            <a:ext cx="1616040" cy="2016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8"/>
          <a:stretch/>
        </p:blipFill>
        <p:spPr>
          <a:xfrm>
            <a:off x="1619280" y="434880"/>
            <a:ext cx="1584360" cy="127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16ACF-74A4-4F4F-AA0C-F414D7006B73}" type="slidenum">
              <a:t>58</a:t>
            </a:fld>
          </a:p>
        </p:txBody>
      </p:sp>
    </p:spTree>
  </p:cSld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276720" y="4653000"/>
            <a:ext cx="54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 1 сентября 2006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Трене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футбольного 6 клас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школы № 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3203640" y="333360"/>
            <a:ext cx="5400720" cy="404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8E32-54BB-4B9A-8F41-389AA21D76AA}" type="slidenum">
              <a:t>59</a:t>
            </a:fld>
          </a:p>
        </p:txBody>
      </p:sp>
    </p:spTree>
  </p:cSld>
  <p:timing>
    <p:tnLst>
      <p:par>
        <p:cTn id="2013" dur="indefinite" restart="never" nodeType="tmRoot">
          <p:childTnLst>
            <p:seq>
              <p:cTn id="2014" dur="indefinite" nodeType="mainSeq">
                <p:childTnLst>
                  <p:par>
                    <p:cTn id="2015" fill="hold">
                      <p:stCondLst>
                        <p:cond delay="0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351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Физическая культур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4427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Ничто та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ильно не разрушает человека, как продолжитель-ное физическое бездействие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Аристот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427640" y="1268280"/>
            <a:ext cx="4176720" cy="3992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237440" y="4437000"/>
            <a:ext cx="1359000" cy="136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74138-05F6-462E-8B02-F856DB95A2F5}" type="slidenum">
              <a:t>6</a:t>
            </a:fld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Директор школ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горный Сергей Иванови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иректор высшей категор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301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ECE99-B72D-4431-A0AF-BE0B7184A8BA}" type="slidenum">
              <a:t>60</a:t>
            </a:fld>
          </a:p>
        </p:txBody>
      </p:sp>
    </p:spTree>
  </p:cSld>
  <p:timing>
    <p:tnLst>
      <p:par>
        <p:cTn id="2029" dur="indefinite" restart="never" nodeType="tmRoot">
          <p:childTnLst>
            <p:seq>
              <p:cTn id="2030" dur="indefinite" nodeType="mainSeq">
                <p:childTnLst>
                  <p:par>
                    <p:cTn id="2031" fill="hold">
                      <p:stCondLst>
                        <p:cond delay="0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132000" y="1413000"/>
            <a:ext cx="5546880" cy="37274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348000" y="537372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«Марафон - 28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284720" y="333360"/>
            <a:ext cx="33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Команд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2228-AA71-4500-971F-EA4FF3E42730}" type="slidenum">
              <a:t>61</a:t>
            </a:fld>
          </a:p>
        </p:txBody>
      </p:sp>
    </p:spTree>
  </p:cSld>
  <p:timing>
    <p:tnLst>
      <p:par>
        <p:cTn id="2061" dur="indefinite" restart="never" nodeType="tmRoot">
          <p:childTnLst>
            <p:seq>
              <p:cTn id="2062" dur="indefinite" nodeType="mainSeq">
                <p:childTnLst>
                  <p:par>
                    <p:cTn id="2063" fill="hold">
                      <p:stCondLst>
                        <p:cond delay="0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4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5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0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1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971640" y="620640"/>
            <a:ext cx="74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Тренер,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воспитатель,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друг…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95280" y="4869000"/>
            <a:ext cx="1503360" cy="15843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1084320" cy="1297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7451640" y="549360"/>
            <a:ext cx="1079640" cy="13446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6804000" y="4941720"/>
            <a:ext cx="1811520" cy="14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B1182-CA06-49FC-A3CB-E479AEB8DA4A}" type="slidenum">
              <a:t>62</a:t>
            </a:fld>
          </a:p>
        </p:txBody>
      </p:sp>
    </p:spTree>
  </p:cSld>
  <p:timing>
    <p:tnLst>
      <p:par>
        <p:cTn id="2083" dur="indefinite" restart="never" nodeType="tmRoot">
          <p:childTnLst>
            <p:seq>
              <p:cTn id="2084" dur="indefinite" nodeType="mainSeq">
                <p:childTnLst>
                  <p:par>
                    <p:cTn id="2085" fill="hold">
                      <p:stCondLst>
                        <p:cond delay="0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1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4" dur="2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2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6" dur="2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9" dur="2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2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1" dur="2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68360" y="765000"/>
            <a:ext cx="813600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Ежеднев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вухразов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рениров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732720" y="3933720"/>
            <a:ext cx="1882800" cy="2374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1726920" cy="164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F33F3-3C89-4E02-AAA1-D1352D542118}" type="slidenum">
              <a:t>63</a:t>
            </a:fld>
          </a:p>
        </p:txBody>
      </p:sp>
    </p:spTree>
  </p:cSld>
  <p:timing>
    <p:tnLst>
      <p:par>
        <p:cTn id="2134" dur="indefinite" restart="never" nodeType="tmRoot">
          <p:childTnLst>
            <p:seq>
              <p:cTn id="2135" dur="indefinite" nodeType="mainSeq">
                <p:childTnLst>
                  <p:par>
                    <p:cTn id="2136" fill="hold">
                      <p:stCondLst>
                        <p:cond delay="0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50920" y="907920"/>
            <a:ext cx="7993080" cy="547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еоретическ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нят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948360" y="4005360"/>
            <a:ext cx="1873440" cy="24667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1440000" cy="1193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FD6A0-D48E-4E86-A799-888536EFCE52}" type="slidenum">
              <a:t>64</a:t>
            </a:fld>
          </a:p>
        </p:txBody>
      </p:sp>
    </p:spTree>
  </p:cSld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0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324000" y="430200"/>
            <a:ext cx="1965240" cy="16286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6732720" y="4076640"/>
            <a:ext cx="1942920" cy="16686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427640" y="4869000"/>
            <a:ext cx="1500120" cy="1611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395280" y="0"/>
            <a:ext cx="7921800" cy="638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ро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асписанию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611280" y="2924280"/>
            <a:ext cx="1224000" cy="12189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5"/>
          <a:stretch/>
        </p:blipFill>
        <p:spPr>
          <a:xfrm>
            <a:off x="7020000" y="404640"/>
            <a:ext cx="1511280" cy="89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EDF5E-E3B3-4B29-AC0E-995719B289FB}" type="slidenum">
              <a:t>65</a:t>
            </a:fld>
          </a:p>
        </p:txBody>
      </p:sp>
    </p:spTree>
  </p:cSld>
  <p:timing>
    <p:tnLst>
      <p:par>
        <p:cTn id="2184" dur="indefinite" restart="never" nodeType="tmRoot">
          <p:childTnLst>
            <p:seq>
              <p:cTn id="2185" dur="indefinite" nodeType="mainSeq">
                <p:childTnLst>
                  <p:par>
                    <p:cTn id="2186" fill="hold">
                      <p:stCondLst>
                        <p:cond delay="0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692360" y="549360"/>
            <a:ext cx="2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800000" cy="17287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-396720" y="1700280"/>
            <a:ext cx="900108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рупп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одлённог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н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6156360" y="4378320"/>
            <a:ext cx="2519280" cy="17859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539640" y="5084640"/>
            <a:ext cx="1944720" cy="14065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6732720" y="260280"/>
            <a:ext cx="1511280" cy="150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92022-F97E-446B-BBAA-79649CFD46FD}" type="slidenum">
              <a:t>66</a:t>
            </a:fld>
          </a:p>
        </p:txBody>
      </p:sp>
    </p:spTree>
  </p:cSld>
  <p:timing>
    <p:tnLst>
      <p:par>
        <p:cTn id="2233" dur="indefinite" restart="never" nodeType="tmRoot">
          <p:childTnLst>
            <p:seq>
              <p:cTn id="2234" dur="indefinite" nodeType="mainSeq">
                <p:childTnLst>
                  <p:par>
                    <p:cTn id="2235" fill="hold">
                      <p:stCondLst>
                        <p:cond delay="0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0" y="765000"/>
            <a:ext cx="817236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некласс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ероприят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211640" y="5013360"/>
            <a:ext cx="1728720" cy="14842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6588000" y="4962600"/>
            <a:ext cx="2165400" cy="16002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900000" y="404640"/>
            <a:ext cx="1160640" cy="139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E0C19-7C2E-49BF-A816-B5C7ABE7BE12}" type="slidenum">
              <a:t>67</a:t>
            </a:fld>
          </a:p>
        </p:txBody>
      </p:sp>
    </p:spTree>
  </p:cSld>
  <p:timing>
    <p:tnLst>
      <p:par>
        <p:cTn id="2274" dur="indefinite" restart="never" nodeType="tmRoot">
          <p:childTnLst>
            <p:seq>
              <p:cTn id="2275" dur="indefinite" nodeType="mainSeq">
                <p:childTnLst>
                  <p:par>
                    <p:cTn id="2276" fill="hold">
                      <p:stCondLst>
                        <p:cond delay="0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6948360" y="4653000"/>
            <a:ext cx="1863720" cy="18493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6804000" y="404640"/>
            <a:ext cx="1779480" cy="1838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1547640" cy="15480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395280" y="4797360"/>
            <a:ext cx="1900080" cy="16653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1547640" y="1125360"/>
            <a:ext cx="60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Турниры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п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настольном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теннис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38DF1-CDC3-4AF9-8E2C-A281FAA04B8C}" type="slidenum">
              <a:t>68</a:t>
            </a:fld>
          </a:p>
        </p:txBody>
      </p:sp>
    </p:spTree>
  </p:cSld>
  <p:timing>
    <p:tnLst>
      <p:par>
        <p:cTn id="2307" dur="indefinite" restart="never" nodeType="tmRoot">
          <p:childTnLst>
            <p:seq>
              <p:cTn id="2308" dur="indefinite" nodeType="mainSeq">
                <p:childTnLst>
                  <p:par>
                    <p:cTn id="2309" fill="hold">
                      <p:stCondLst>
                        <p:cond delay="0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3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5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9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1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5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7" dur="1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1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3" dur="1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68360" y="290520"/>
            <a:ext cx="1763640" cy="10717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7093080" y="5141880"/>
            <a:ext cx="1800000" cy="13921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905120" y="1268280"/>
            <a:ext cx="5403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Турниры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п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бильярд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7020000" y="404640"/>
            <a:ext cx="1655640" cy="1224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395280" y="4724280"/>
            <a:ext cx="1730520" cy="171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7B5F3-D307-43FC-ACB5-11E2EAFB1B28}" type="slidenum">
              <a:t>69</a:t>
            </a:fld>
          </a:p>
        </p:txBody>
      </p:sp>
    </p:spTree>
  </p:cSld>
  <p:timing>
    <p:tnLst>
      <p:par>
        <p:cTn id="2366" dur="indefinite" restart="never" nodeType="tmRoot">
          <p:childTnLst>
            <p:seq>
              <p:cTn id="2367" dur="indefinite" nodeType="mainSeq">
                <p:childTnLst>
                  <p:par>
                    <p:cTn id="2368" fill="hold">
                      <p:stCondLst>
                        <p:cond delay="0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4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8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0" dur="1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4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6" dur="1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Физическое воспит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6432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4200" spc="-1" strike="noStrike">
                <a:solidFill>
                  <a:srgbClr val="000000"/>
                </a:solidFill>
                <a:latin typeface="Times New Roman"/>
              </a:rPr>
              <a:t>Недостаточно закалять душу ребёнка, столь же необходимо закалять и его мышц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М. Монтен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27840" y="3927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4066920" cy="40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00058-C99E-4D71-B242-10A634322AD1}" type="slidenum">
              <a:t>7</a:t>
            </a:fld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905120" y="1268280"/>
            <a:ext cx="5403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Турниры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п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футбол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800360" cy="13734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1612800" cy="16286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468360" y="4508640"/>
            <a:ext cx="1503360" cy="18716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>
            <a:off x="7102440" y="4724280"/>
            <a:ext cx="1590840" cy="17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3482C-BC12-42BB-9C2A-BBD283970CAD}" type="slidenum">
              <a:t>70</a:t>
            </a:fld>
          </a:p>
        </p:txBody>
      </p:sp>
    </p:spTree>
  </p:cSld>
  <p:timing>
    <p:tnLst>
      <p:par>
        <p:cTn id="2419" dur="indefinite" restart="never" nodeType="tmRoot">
          <p:childTnLst>
            <p:seq>
              <p:cTn id="2420" dur="indefinite" nodeType="mainSeq">
                <p:childTnLst>
                  <p:par>
                    <p:cTn id="2421" fill="hold">
                      <p:stCondLst>
                        <p:cond delay="0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5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7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1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3" dur="1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7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9" dur="10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0" fill="hold">
                      <p:stCondLst>
                        <p:cond delay="indefinite"/>
                      </p:stCondLst>
                      <p:childTnLst>
                        <p:par>
                          <p:cTn id="2441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4" fill="hold">
                      <p:stCondLst>
                        <p:cond delay="indefinite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547640" y="4005360"/>
            <a:ext cx="266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35280" y="981000"/>
            <a:ext cx="5580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Стрельб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из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боевого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оружи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6732720" y="4651200"/>
            <a:ext cx="2016000" cy="16718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7236000" y="404640"/>
            <a:ext cx="1393560" cy="20876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755640" y="4221000"/>
            <a:ext cx="1303200" cy="21067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539640" y="620640"/>
            <a:ext cx="1581120" cy="158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FD334-33AC-4A56-9FDE-0807722EFDC5}" type="slidenum">
              <a:t>71</a:t>
            </a:fld>
          </a:p>
        </p:txBody>
      </p:sp>
    </p:spTree>
  </p:cSld>
  <p:timing>
    <p:tnLst>
      <p:par>
        <p:cTn id="2472" dur="indefinite" restart="never" nodeType="tmRoot">
          <p:childTnLst>
            <p:seq>
              <p:cTn id="2473" dur="indefinite" nodeType="mainSeq">
                <p:childTnLst>
                  <p:par>
                    <p:cTn id="2474" fill="hold">
                      <p:stCondLst>
                        <p:cond delay="0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1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950"/>
                            </p:stCondLst>
                            <p:childTnLst>
                              <p:par>
                                <p:cTn id="2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5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7" dur="1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8" fill="hold">
                            <p:stCondLst>
                              <p:cond delay="1950"/>
                            </p:stCondLst>
                            <p:childTnLst>
                              <p:par>
                                <p:cTn id="24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1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2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3" dur="1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4" fill="hold">
                            <p:stCondLst>
                              <p:cond delay="2950"/>
                            </p:stCondLst>
                            <p:childTnLst>
                              <p:par>
                                <p:cTn id="2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7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9" dur="1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3950"/>
                            </p:stCondLst>
                            <p:childTnLst>
                              <p:par>
                                <p:cTn id="25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3" dur="1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1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5" dur="10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547640" y="4005360"/>
            <a:ext cx="266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42920" y="0"/>
            <a:ext cx="734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Турниры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по шашкам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5688000" cy="407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D9208-E620-4925-A1D8-0751F4E1C617}" type="slidenum">
              <a:t>72</a:t>
            </a:fld>
          </a:p>
        </p:txBody>
      </p:sp>
    </p:spTree>
  </p:cSld>
  <p:timing>
    <p:tnLst>
      <p:par>
        <p:cTn id="2538" dur="indefinite" restart="never" nodeType="tmRoot">
          <p:childTnLst>
            <p:seq>
              <p:cTn id="2539" dur="indefinite" nodeType="mainSeq">
                <p:childTnLst>
                  <p:par>
                    <p:cTn id="2540" fill="hold">
                      <p:stCondLst>
                        <p:cond delay="0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8" fill="hold">
                            <p:stCondLst>
                              <p:cond delay="950"/>
                            </p:stCondLst>
                            <p:childTnLst>
                              <p:par>
                                <p:cTn id="25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1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3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1950"/>
                            </p:stCondLst>
                            <p:childTnLst>
                              <p:par>
                                <p:cTn id="25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7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8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9" dur="1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268360" y="333360"/>
            <a:ext cx="6407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3300"/>
                </a:solidFill>
                <a:latin typeface="Times New Roman"/>
              </a:rPr>
              <a:t>Ледовый Дворец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971640" y="1773360"/>
            <a:ext cx="7632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Катание на конька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Посещение хоккейных матч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2700360" y="3716280"/>
            <a:ext cx="6049800" cy="290196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250920" y="4941720"/>
            <a:ext cx="1655640" cy="15066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132084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FDA14-7398-4376-A0BA-57447142F5A6}" type="slidenum">
              <a:t>73</a:t>
            </a:fld>
          </a:p>
        </p:txBody>
      </p:sp>
    </p:spTree>
  </p:cSld>
  <p:timing>
    <p:tnLst>
      <p:par>
        <p:cTn id="2567" dur="indefinite" restart="never" nodeType="tmRoot">
          <p:childTnLst>
            <p:seq>
              <p:cTn id="2568" dur="indefinite" nodeType="mainSeq">
                <p:childTnLst>
                  <p:par>
                    <p:cTn id="2569" fill="hold">
                      <p:stCondLst>
                        <p:cond delay="0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3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5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fill="hold">
                      <p:stCondLst>
                        <p:cond delay="indefinite"/>
                      </p:stCondLst>
                      <p:childTnLst>
                        <p:par>
                          <p:cTn id="2577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0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3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4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Укрепление здоровь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4968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осещение сауны с купание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атание на лыжа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осещение аквапарка города Казан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564000" y="5734080"/>
            <a:ext cx="936720" cy="8874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5292720" y="5229360"/>
            <a:ext cx="1297080" cy="11682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3995640" y="2924280"/>
            <a:ext cx="1800360" cy="17143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7020000" y="4724280"/>
            <a:ext cx="1793880" cy="17989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6659640" y="3068640"/>
            <a:ext cx="1492200" cy="14256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6"/>
          <a:stretch/>
        </p:blipFill>
        <p:spPr>
          <a:xfrm>
            <a:off x="6300720" y="1628640"/>
            <a:ext cx="1727280" cy="115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48FE2-E5A2-4B8D-80F1-DC87461BFEC0}" type="slidenum">
              <a:t>74</a:t>
            </a:fld>
          </a:p>
        </p:txBody>
      </p:sp>
    </p:spTree>
  </p:cSld>
  <p:timing>
    <p:tnLst>
      <p:par>
        <p:cTn id="2615" dur="indefinite" restart="never" nodeType="tmRoot">
          <p:childTnLst>
            <p:seq>
              <p:cTn id="2616" dur="indefinite" nodeType="mainSeq">
                <p:childTnLst>
                  <p:par>
                    <p:cTn id="2617" fill="hold">
                      <p:stCondLst>
                        <p:cond delay="0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4" fill="hold">
                      <p:stCondLst>
                        <p:cond delay="indefinite"/>
                      </p:stCondLst>
                      <p:childTnLst>
                        <p:par>
                          <p:cTn id="2625" fill="hold">
                            <p:stCondLst>
                              <p:cond delay="0"/>
                            </p:stCondLst>
                            <p:childTnLst>
                              <p:par>
                                <p:cTn id="26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8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9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0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2" dur="8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3" dur="8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4" dur="8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1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2" fill="hold">
                      <p:stCondLst>
                        <p:cond delay="indefinite"/>
                      </p:stCondLst>
                      <p:childTnLst>
                        <p:par>
                          <p:cTn id="2653" fill="hold">
                            <p:stCondLst>
                              <p:cond delay="0"/>
                            </p:stCondLst>
                            <p:childTnLst>
                              <p:par>
                                <p:cTn id="26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9" fill="hold">
                      <p:stCondLst>
                        <p:cond delay="indefinite"/>
                      </p:stCondLst>
                      <p:childTnLst>
                        <p:par>
                          <p:cTn id="2660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3" dur="8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4" dur="8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5" dur="8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3" fill="hold">
                      <p:stCondLst>
                        <p:cond delay="indefinite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6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403280" y="765000"/>
            <a:ext cx="6481800" cy="475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бота 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летних 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агерях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7164360" y="476280"/>
            <a:ext cx="1513080" cy="13618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324000" y="5300640"/>
            <a:ext cx="1692000" cy="112716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7740720" y="5516640"/>
            <a:ext cx="1008000" cy="99036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395280" y="620640"/>
            <a:ext cx="1152360" cy="10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C8873-907F-4601-844A-A1DC4FDBC953}" type="slidenum">
              <a:t>75</a:t>
            </a:fld>
          </a:p>
        </p:txBody>
      </p:sp>
    </p:spTree>
  </p:cSld>
  <p:timing>
    <p:tnLst>
      <p:par>
        <p:cTn id="2687" dur="indefinite" restart="never" nodeType="tmRoot">
          <p:childTnLst>
            <p:seq>
              <p:cTn id="2688" dur="indefinite" nodeType="mainSeq">
                <p:childTnLst>
                  <p:par>
                    <p:cTn id="2689" fill="hold">
                      <p:stCondLst>
                        <p:cond delay="0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2" fill="hold">
                      <p:stCondLst>
                        <p:cond delay="indefinite"/>
                      </p:stCondLst>
                      <p:childTnLst>
                        <p:par>
                          <p:cTn id="2713" fill="hold">
                            <p:stCondLst>
                              <p:cond delay="0"/>
                            </p:stCondLst>
                            <p:childTnLst>
                              <p:par>
                                <p:cTn id="27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0" fill="hold">
                      <p:stCondLst>
                        <p:cond delay="indefinite"/>
                      </p:stCondLst>
                      <p:childTnLst>
                        <p:par>
                          <p:cTn id="2721" fill="hold">
                            <p:stCondLst>
                              <p:cond delay="0"/>
                            </p:stCondLst>
                            <p:childTnLst>
                              <p:par>
                                <p:cTn id="27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6954840" cy="46371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979640" y="33336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Тренируемся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7380360" y="404640"/>
            <a:ext cx="1192320" cy="157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68329-6DD5-40E9-B2F7-B08F97C8BA7F}" type="slidenum">
              <a:t>76</a:t>
            </a:fld>
          </a:p>
        </p:txBody>
      </p:sp>
    </p:spTree>
  </p:cSld>
  <p:timing>
    <p:tnLst>
      <p:par>
        <p:cTn id="2728" dur="indefinite" restart="never" nodeType="tmRoot">
          <p:childTnLst>
            <p:seq>
              <p:cTn id="2729" dur="indefinite" nodeType="mainSeq">
                <p:childTnLst>
                  <p:par>
                    <p:cTn id="2730" fill="hold">
                      <p:stCondLst>
                        <p:cond delay="0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4" dur="2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2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6" dur="2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7" fill="hold">
                      <p:stCondLst>
                        <p:cond delay="indefinite"/>
                      </p:stCondLst>
                      <p:childTnLst>
                        <p:par>
                          <p:cTn id="2738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4" fill="hold">
                      <p:stCondLst>
                        <p:cond delay="indefinite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050920" y="404640"/>
            <a:ext cx="51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Отдыхаем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769080" cy="445284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657440" cy="114768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7380360" y="404640"/>
            <a:ext cx="1368360" cy="11653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5"/>
          <a:stretch/>
        </p:blipFill>
        <p:spPr>
          <a:xfrm>
            <a:off x="6659640" y="3213000"/>
            <a:ext cx="720720" cy="65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75185-0749-470C-8BE6-CF5162EA3FB3}" type="slidenum">
              <a:t>77</a:t>
            </a:fld>
          </a:p>
        </p:txBody>
      </p:sp>
    </p:spTree>
  </p:cSld>
  <p:timing>
    <p:tnLst>
      <p:par>
        <p:cTn id="2752" dur="indefinite" restart="never" nodeType="tmRoot">
          <p:childTnLst>
            <p:seq>
              <p:cTn id="2753" dur="indefinite" nodeType="mainSeq">
                <p:childTnLst>
                  <p:par>
                    <p:cTn id="2754" fill="hold">
                      <p:stCondLst>
                        <p:cond delay="0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8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0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7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8" fill="hold">
                      <p:stCondLst>
                        <p:cond delay="indefinite"/>
                      </p:stCondLst>
                      <p:childTnLst>
                        <p:par>
                          <p:cTn id="2769" fill="hold">
                            <p:stCondLst>
                              <p:cond delay="0"/>
                            </p:stCondLst>
                            <p:childTnLst>
                              <p:par>
                                <p:cTn id="2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5" fill="hold">
                      <p:stCondLst>
                        <p:cond delay="indefinite"/>
                      </p:stCondLst>
                      <p:childTnLst>
                        <p:par>
                          <p:cTn id="2776" fill="hold">
                            <p:stCondLst>
                              <p:cond delay="0"/>
                            </p:stCondLst>
                            <p:childTnLst>
                              <p:par>
                                <p:cTn id="2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fill="hold">
                      <p:stCondLst>
                        <p:cond delay="indefinite"/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9" fill="hold">
                      <p:stCondLst>
                        <p:cond delay="indefinite"/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3405240" cy="482436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5867280" y="3284640"/>
            <a:ext cx="2122560" cy="197316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1619280" y="57340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За хорошую работу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5508720" y="836640"/>
            <a:ext cx="2663640" cy="198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0DBA3-9DD7-4CEA-9719-DA4B413EFB33}" type="slidenum">
              <a:t>78</a:t>
            </a:fld>
          </a:p>
        </p:txBody>
      </p:sp>
    </p:spTree>
  </p:cSld>
  <p:timing>
    <p:tnLst>
      <p:par>
        <p:cTn id="2796" dur="indefinite" restart="never" nodeType="tmRoot">
          <p:childTnLst>
            <p:seq>
              <p:cTn id="2797" dur="indefinite" nodeType="mainSeq">
                <p:childTnLst>
                  <p:par>
                    <p:cTn id="2798" fill="hold">
                      <p:stCondLst>
                        <p:cond delay="0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4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0" fill="hold">
                      <p:stCondLst>
                        <p:cond delay="indefinite"/>
                      </p:stCondLst>
                      <p:childTnLst>
                        <p:par>
                          <p:cTn id="2821" fill="hold">
                            <p:stCondLst>
                              <p:cond delay="0"/>
                            </p:stCondLst>
                            <p:childTnLst>
                              <p:par>
                                <p:cTn id="28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68360" y="1125360"/>
            <a:ext cx="8675640" cy="417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бщественная </a:t>
            </a:r>
            <a:endParaRPr b="1" lang="en-US" sz="6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бота</a:t>
            </a:r>
            <a:endParaRPr b="1" lang="en-US" sz="6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79280" y="5157720"/>
            <a:ext cx="5545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7164360" y="5300640"/>
            <a:ext cx="165744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5DF9E-7C9E-432D-825C-CA8D75B6124F}" type="slidenum">
              <a:t>79</a:t>
            </a:fld>
          </a:p>
        </p:txBody>
      </p:sp>
    </p:spTree>
  </p:cSld>
  <p:timing>
    <p:tnLst>
      <p:par>
        <p:cTn id="2828" dur="indefinite" restart="never" nodeType="tmRoot">
          <p:childTnLst>
            <p:seq>
              <p:cTn id="2829" dur="indefinite" nodeType="mainSeq">
                <p:childTnLst>
                  <p:par>
                    <p:cTn id="2830" fill="hold">
                      <p:stCondLst>
                        <p:cond delay="0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6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1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2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5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6" fill="hold">
                      <p:stCondLst>
                        <p:cond delay="indefinite"/>
                      </p:stCondLst>
                      <p:childTnLst>
                        <p:par>
                          <p:cTn id="2847" fill="hold">
                            <p:stCondLst>
                              <p:cond delay="0"/>
                            </p:stCondLst>
                            <p:childTnLst>
                              <p:par>
                                <p:cTn id="28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92360" y="333000"/>
            <a:ext cx="5904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СПОРТ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5292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Хорошее здоровье, ощущение полноты и неистощимости физических си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ажнейший источник жизнерадостно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осприяти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птимизма, готовности преодолеть любые трудности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В.А. Сухомлински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75480" y="36399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435640" y="2276640"/>
            <a:ext cx="3384360" cy="33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D5390-73F7-4820-AE3C-AB00457E1FC3}" type="slidenum">
              <a:t>8</a:t>
            </a:fld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3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755640" y="1700280"/>
            <a:ext cx="8064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Благоустройств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школьного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стадио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7308720" y="33336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324000" y="5157720"/>
            <a:ext cx="1800000" cy="137340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4"/>
          <a:stretch/>
        </p:blipFill>
        <p:spPr>
          <a:xfrm>
            <a:off x="6734160" y="4437000"/>
            <a:ext cx="1827360" cy="184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B634D-CC9B-474B-8549-E063F34BD8A3}" type="slidenum">
              <a:t>80</a:t>
            </a:fld>
          </a:p>
        </p:txBody>
      </p:sp>
    </p:spTree>
  </p:cSld>
  <p:timing>
    <p:tnLst>
      <p:par>
        <p:cTn id="2854" dur="indefinite" restart="never" nodeType="tmRoot">
          <p:childTnLst>
            <p:seq>
              <p:cTn id="2855" dur="indefinite" nodeType="mainSeq">
                <p:childTnLst>
                  <p:par>
                    <p:cTn id="2856" fill="hold">
                      <p:stCondLst>
                        <p:cond delay="0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3" fill="hold">
                      <p:stCondLst>
                        <p:cond delay="indefinite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1" fill="hold">
                      <p:stCondLst>
                        <p:cond delay="indefinite"/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95280" y="260280"/>
            <a:ext cx="828036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обретение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диной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ртивной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24000" y="4653000"/>
            <a:ext cx="1798560" cy="187308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6443640" y="4724280"/>
            <a:ext cx="2376360" cy="180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02CB9-CD8C-4D34-AE42-D0E9338DDBDD}" type="slidenum">
              <a:t>81</a:t>
            </a:fld>
          </a:p>
        </p:txBody>
      </p:sp>
    </p:spTree>
  </p:cSld>
  <p:timing>
    <p:tnLst>
      <p:par>
        <p:cTn id="2895" dur="indefinite" restart="never" nodeType="tmRoot">
          <p:childTnLst>
            <p:seq>
              <p:cTn id="2896" dur="indefinite" nodeType="mainSeq">
                <p:childTnLst>
                  <p:par>
                    <p:cTn id="2897" fill="hold">
                      <p:stCondLst>
                        <p:cond delay="0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3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4" fill="hold">
                      <p:stCondLst>
                        <p:cond delay="indefinite"/>
                      </p:stCondLst>
                      <p:childTnLst>
                        <p:par>
                          <p:cTn id="2905" fill="hold">
                            <p:stCondLst>
                              <p:cond delay="0"/>
                            </p:stCondLst>
                            <p:childTnLst>
                              <p:par>
                                <p:cTn id="29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2" fill="hold">
                      <p:stCondLst>
                        <p:cond delay="indefinite"/>
                      </p:stCondLst>
                      <p:childTnLst>
                        <p:par>
                          <p:cTn id="2913" fill="hold">
                            <p:stCondLst>
                              <p:cond delay="0"/>
                            </p:stCondLst>
                            <p:childTnLst>
                              <p:par>
                                <p:cTn id="29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539640" y="692280"/>
            <a:ext cx="82090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нимание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F86DA-62FC-45FE-AE94-1DE068EBB94C}" type="slidenum">
              <a:t>82</a:t>
            </a:fld>
          </a:p>
        </p:txBody>
      </p:sp>
    </p:spTree>
  </p:cSld>
  <p:timing>
    <p:tnLst>
      <p:par>
        <p:cTn id="2920" dur="indefinite" restart="never" nodeType="tmRoot">
          <p:childTnLst>
            <p:seq>
              <p:cTn id="2921" dur="indefinite" nodeType="mainSeq">
                <p:childTnLst>
                  <p:par>
                    <p:cTn id="2922" fill="hold">
                      <p:stCondLst>
                        <p:cond delay="0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6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7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180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6856560" y="3860640"/>
            <a:ext cx="1982520" cy="272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64989-FC0B-44E6-81CA-52C8CFCA3D88}" type="slidenum">
              <a:t>83</a:t>
            </a:fld>
          </a:p>
        </p:txBody>
      </p:sp>
    </p:spTree>
  </p:cSld>
  <p:timing>
    <p:tnLst>
      <p:par>
        <p:cTn id="2928" dur="indefinite" restart="never" nodeType="tmRoot">
          <p:childTnLst>
            <p:seq>
              <p:cTn id="2929" dur="indefinite" nodeType="mainSeq">
                <p:childTnLst>
                  <p:par>
                    <p:cTn id="2930" fill="hold">
                      <p:stCondLst>
                        <p:cond delay="0"/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6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7" fill="hold">
                      <p:stCondLst>
                        <p:cond delay="indefinite"/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68360" y="692280"/>
            <a:ext cx="813600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утбол</a:t>
            </a:r>
            <a:endParaRPr b="1" lang="en-US" sz="60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2952720" cy="2438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596360" y="4797360"/>
            <a:ext cx="1255680" cy="180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003CB-2595-4F4E-B8C1-77DC756850EF}" type="slidenum">
              <a:t>9</a:t>
            </a:fld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4:11:27Z</dcterms:created>
  <dc:creator>User</dc:creator>
  <dc:description/>
  <dc:language>en-US</dc:language>
  <cp:lastModifiedBy>Ирина</cp:lastModifiedBy>
  <dcterms:modified xsi:type="dcterms:W3CDTF">2007-01-21T17:50:23Z</dcterms:modified>
  <cp:revision>408</cp:revision>
  <dc:subject/>
  <dc:title>Федерация интернет Образования</dc:title>
</cp:coreProperties>
</file>